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CFB-A4C4-4525-B0E5-BEB962E3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6080" y="413064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0BC-DB0B-4A12-951E-66206E0D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1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C86-0A8D-4A63-B9D5-33F17B92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7716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6824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608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7716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6824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12D-A7E8-435D-9165-7B40E848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1C45-3281-49CF-968B-8E02BF67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D1BB-35A9-4930-8ACE-1EB8AB1C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381C-7A69-457E-9A0B-A34A90D5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02ED-B862-4B74-BB2B-508797B0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3C36-3921-4093-9215-887B3E13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85720" y="533160"/>
            <a:ext cx="81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B2E9-0FB2-4A43-B7BE-4F6407C6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C42D-6966-4E8F-9A8B-A595DC3D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93B-C309-445C-9043-6E2BA3CE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11AB-7436-4B1D-99E4-2275F81D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9A59-5232-4630-BFB1-AEE26897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86080" y="413064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D9D6-EB8E-4FF0-9677-044A35DE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1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0517-34CC-4E13-AFA8-2ADC940B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7716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68240" y="19810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8608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7716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68240" y="41306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2738-DCAA-479D-8CD6-B9BE6088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29F-B1DE-4850-A046-E04C71C7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B54-1E4B-48C6-B6B7-8AB581ED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CBE-0E80-4B9B-BD94-4445DF71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85720" y="533160"/>
            <a:ext cx="81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88E-3616-4AFA-98B3-160B8F2A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33B-D8B2-4DC5-BEAF-3B653AC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6080" y="413064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ED9-1E1A-46D4-8E73-7AEC9F02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6080" y="1981080"/>
            <a:ext cx="4028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6080" y="4130640"/>
            <a:ext cx="8254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84A-1277-4B2C-8910-37299912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486080" y="6248520"/>
            <a:ext cx="181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714480" y="6248520"/>
            <a:ext cx="371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8418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0D1C-C66B-490E-A4C4-08961E7E2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32084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9360" y="685440"/>
            <a:ext cx="60246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24F1-BD0F-438F-A39B-BB0EAB6A08D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37040" y="685440"/>
            <a:ext cx="6767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Times New Roman"/>
              </a:rPr>
              <a:t>CONSIGLIO DI STATO sez.VI – 30/4/2003 </a:t>
            </a:r>
            <a:br>
              <a:rPr sz="4400"/>
            </a:br>
            <a:r>
              <a:rPr b="0" lang="en-US" sz="4400" spc="-1" strike="noStrike">
                <a:solidFill>
                  <a:srgbClr val="5f5f5f"/>
                </a:solidFill>
                <a:latin typeface="Times New Roman"/>
              </a:rPr>
              <a:t>n. 2331</a:t>
            </a:r>
            <a:endParaRPr b="0" lang="en-US" sz="4400" spc="-1" strike="noStrike">
              <a:solidFill>
                <a:srgbClr val="5f5f5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200560" y="4038120"/>
            <a:ext cx="47037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Times New Roman"/>
              </a:rPr>
              <a:t>SENTENZA</a:t>
            </a:r>
            <a:endParaRPr b="0" lang="en-US" sz="5900" spc="-1" strike="noStrike">
              <a:solidFill>
                <a:srgbClr val="5f5f5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.Q.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6080" y="198108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 TRIBUNALE RESPINGE IL RICOR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ANNA I RICORRENTI AL PAGAMENTO IN FAVORE DELL’AMMINISTRAZIONE DELLE SPESE DEL PRESENTE GIUDIZ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UTO DELL’ANALITICA RELAZIONE DEL DIRIGENTE SCOLASTIC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95920" y="1981080"/>
            <a:ext cx="404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COLLEGIO DOCENTI NELLA SEDUTA DEL .. AVEVA DELIBERATO I CRITERI, CHE PREVEDEVANO UN NUMERO MASSIMO DI 3 DISCIPLINE IN CUI POTER ATTRIBUIRE DEBITI FORMATIVI, LADDOVE L’ALUNNO AVEVA RIPORTATO 4 INSUFFICIEN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S00559_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86080" y="2979720"/>
            <a:ext cx="40446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UTO DELL’ANALITICA RELAZIONE DEL DIRIGENTE SCOLAS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95920" y="1981080"/>
            <a:ext cx="404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ONSEGUENZA AL NUMERO DELLE INSUFFICIENZE L’ALUNNO NON AVEVA POSSIBILITA’ DI INSERIRSI PROFICUAMENTE NEL PERCORSO DIDATTICO SUCCESSIVO, NEPPURE CON EVENTUALI CORSI DI RECUP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S00554_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86080" y="2409840"/>
            <a:ext cx="40446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UTO DELL’ANALITICA RELAZIONE DEL DIRIGENTE SCOLAS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95920" y="1981080"/>
            <a:ext cx="404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AMIGLIA ERA STATA COSTANTEMENTE INFORMATA DELL’ANDAMENTO NEGATIVO DEL PROFITTO DEL FIGLIO, CON COMUNICAZIONI QUADRIMESTRALI E INFOQUADRIMEST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D04924_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55800" y="1981080"/>
            <a:ext cx="3305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5720" y="533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UTO DELL’ANALITICA RELAZIONE DEL DIRIGENTE SCOLAS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95920" y="1981080"/>
            <a:ext cx="404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SCUOLA AVEVA ANCHE ATTIVATO CORSI DI RECUPERO CURRICOLARI CHE AVEVANO COMUNQUE DATO, NEL CASO DELL’ALUNNO, ESITI CONTRADDITORI IN QUANTO LO STESSO, PER RECUPERARE ALCUNE MATERIE, NE AVEVA TRASCURATE AL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D05015_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86080" y="1982880"/>
            <a:ext cx="40446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86080" y="6094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 RITIENE INOLTRE QUANTO SE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’ALUNNO VA ASSICURATO IL DIRITTO DI CONOSCERE GLI ERRORI, LE INESATTEZZE O LE LACUNE IN CUI LA COMMISSIONE RITIENE SIA IN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UNTEGGIO NUMERICO DEVONO ACCOMPAGNARSI ULTERIORI ELEMENTI PER RICOSTRUIRE LA MOTIVAZIONE DEL GIUDIZIO DI VAL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50960" y="304560"/>
            <a:ext cx="784224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COMMISSIONE DEVE FORMULARE DETTAGLIATAMENTE E PRELIMINARMENTE I CRITERI DI VALUTAZ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0960" y="3809880"/>
            <a:ext cx="8007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RICORDA IL COMPITO DEL COLLEGIO DOCENTI E IL P.O.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8520" y="533160"/>
            <a:ext cx="80899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CORRETTA L’APPOSIZIONE DI NOTE A MARGINE DELL’ELABORATO O L’USO DI SEGNI GRAFICI CHE CONSENTANO DI INDIVIDUARE GLI ASPETTI DELLA PROVA NON VALUTATI POSITIVAMENTE DALLA COMMISSI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33400" y="228240"/>
            <a:ext cx="784224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OMMISSIONE DEVE PERTANTO INDICARE I PRESUPPOSTI DI FATTO, CI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LE PRECISE LACUNE DELL’ALUNNO, AFFINCH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L’ATTENDIBILI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DEL GIUDIZIO VALUTATIVO POSSA ESSERE SOTTOPOSTA A CONTROLLO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4:53Z</dcterms:created>
  <dc:creator>pavatti</dc:creator>
  <dc:description/>
  <dc:language>en-US</dc:language>
  <cp:lastModifiedBy>bullo</cp:lastModifiedBy>
  <dcterms:modified xsi:type="dcterms:W3CDTF">2004-05-11T10:47:05Z</dcterms:modified>
  <cp:revision>19</cp:revision>
  <dc:subject/>
  <dc:title>CONSIGLIO DI STATO sez.VI – 30/4/2003  n. 2331</dc:title>
</cp:coreProperties>
</file>